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8400-53C5-47C7-8FC1-553CDC67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1A0F-83B6-48A5-BFDF-504F28AF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2AE3-B9FF-4F12-8039-CA2DBF51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FB79-F4C4-44C5-8DE9-76587C67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B07-0A6A-4FCC-A67C-BBE2A91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3B4-34BB-4004-B188-3C4150D7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A03-ABD1-46DA-94A6-1C9EDDF3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C583-C73B-4A8D-9F62-8CE3BC80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5E72-497F-48A1-8D94-DA1D777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CDB6-22A4-4D64-AF35-D57D7899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B146-A0EE-468C-B52F-42A4F00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09C0-F79F-4717-9822-A2C4FE6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89E9-AD06-42E2-8AF3-CEDBE073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2EB-3D3C-4624-BFAB-ADB75EA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F0D2-A065-48B1-975D-29126A5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B2C8-4D67-4BE7-951B-75C13FE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1BF6-6453-4BCE-B57E-FA06DC54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C5D9-EE4E-4761-83FF-ED2FD5B9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E7AE-711B-4C78-AEBA-44EE73E4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EAE1-6720-4A2B-A94D-3E05D6EB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7891-E1EB-4877-B188-BAE2D00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EF5A-B5B9-4370-AD68-14E73B0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D974-BCC0-4607-AAAE-F8D16D8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F7B5-118A-478C-990B-8774602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39B-1E8D-4B91-8A3B-E04D8BE8E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74B-650C-4A97-A11F-2BCD6AB8BE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e5e5ff"/>
                </a:solidFill>
                <a:latin typeface="Garamond"/>
              </a:rPr>
              <a:t>Mean Creek</a:t>
            </a:r>
            <a:br>
              <a:rPr sz="5400"/>
            </a:br>
            <a:r>
              <a:rPr b="1" lang="en-NZ" sz="2800" spc="-1" strike="noStrike">
                <a:solidFill>
                  <a:srgbClr val="e5e5ff"/>
                </a:solidFill>
                <a:latin typeface="Garamond"/>
              </a:rPr>
              <a:t>directed by Jacob Aaron Es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6021000"/>
            <a:ext cx="6400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Looking closely at the fil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Pl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rite plot summary that is </a:t>
            </a:r>
            <a:r>
              <a:rPr b="0" lang="en-NZ" sz="3200" spc="-1" strike="noStrike" u="sng">
                <a:solidFill>
                  <a:srgbClr val="ffffff"/>
                </a:solidFill>
                <a:uFillTx/>
                <a:latin typeface="Garamond"/>
              </a:rPr>
              <a:t>exactly 75 words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long. Ensure you include coverage of all the key ev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3078000"/>
            <a:ext cx="41878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s - descrip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viewing the film, choose five words you would use to describe George or Sam. Give a specific example and quote from the film to support each w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………………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s -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am and Rock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1) Describe the relationship that Sam and Rocky have. Find a quote/example that supports th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Garamond"/>
              </a:rPr>
              <a:t>2) Describe how their relationship changes after George’s death.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nd a quote/example that supports th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4286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The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ly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ge and Consequen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ing of age/loss of innoc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w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mes.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rite your own definition for each on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describe 2-3 events from the film (with quotes) that illustrate each theme. Try to discuss a range of visual and verbal techniq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haracter - th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lain how the character helps to convey the following the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ullying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venge and consequence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ming of 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ry to give specific examples from the text to support your answ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et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is the film s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s the film s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wo physical settings (places). Describe them (with quotes/exampl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38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Important Ev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escribe what you believe to be the most important event in the film. Find </a:t>
            </a:r>
            <a:r>
              <a:rPr b="1" lang="en-NZ" sz="3200" spc="-1" strike="noStrike">
                <a:solidFill>
                  <a:srgbClr val="ffffff"/>
                </a:solidFill>
                <a:latin typeface="Garamond"/>
              </a:rPr>
              <a:t>two to three quotes/examples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that refer to the ev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at does the event show the viewer abou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Each character invol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themes in the fi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Beginning and 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escribe the sequence in Rocky and Sam’s room at the beginning of the fil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escribe the sequence in their room at the end of the fil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ow has the lighting, music and actions chang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at does this reveal about how the character’s have chang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ow do the changes link to the them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4869000"/>
            <a:ext cx="20862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3:32:15Z</dcterms:created>
  <dc:creator>Ministry of Education</dc:creator>
  <dc:description/>
  <dc:language>en-US</dc:language>
  <cp:lastModifiedBy>camos</cp:lastModifiedBy>
  <dcterms:modified xsi:type="dcterms:W3CDTF">2009-06-10T02:30:42Z</dcterms:modified>
  <cp:revision>7</cp:revision>
  <dc:subject/>
  <dc:title>Of Mice and Men by John Steinbeck</dc:title>
</cp:coreProperties>
</file>